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C88F-ED0C-4289-B484-35AA7E919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C86F-CD82-4E7B-B933-37BABF52D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FFD-93A5-4677-A39A-4C80C0E7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250-7EC2-4331-9D7D-62D964A1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5BC-7A7B-4A09-8FF7-73C932C0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564-DBEB-4E06-B077-F2F061AF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C6D-9CEA-42B2-8EAD-7F4B65CD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6EC-7BA6-4895-9893-4B04BB1E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C88-F08D-47A7-ACA5-1107FAD6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725-CC13-4F55-B317-3A83FABF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A57-503B-4360-B1CC-418019D2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286-DC86-4533-9F53-3002EDF3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EA9-FD44-4A52-B524-DE659431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177-8284-4B9C-8AFE-8CE97C39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DA3D-2321-43FE-83A4-107F170C3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3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2:15Z</dcterms:modified>
  <cp:revision>118</cp:revision>
  <dc:subject/>
  <dc:title>Museum of World Stuff</dc:title>
</cp:coreProperties>
</file>